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113588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7113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81240" cy="4730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ldImg"/>
          </p:nvPr>
        </p:nvSpPr>
        <p:spPr>
          <a:xfrm>
            <a:off x="1193400" y="708120"/>
            <a:ext cx="4724280" cy="3543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c1c1c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body"/>
          </p:nvPr>
        </p:nvSpPr>
        <p:spPr>
          <a:xfrm>
            <a:off x="947880" y="4487760"/>
            <a:ext cx="5216400" cy="42530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dt" idx="7"/>
          </p:nvPr>
        </p:nvSpPr>
        <p:spPr>
          <a:xfrm>
            <a:off x="4030560" y="0"/>
            <a:ext cx="3081600" cy="4730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975880"/>
            <a:ext cx="3081240" cy="4730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4030560" y="8975880"/>
            <a:ext cx="3081600" cy="4730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EC3E499C-359E-46D6-9BDA-EB349A3CED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13"/>
          <p:cNvSpPr/>
          <p:nvPr/>
        </p:nvSpPr>
        <p:spPr>
          <a:xfrm>
            <a:off x="4030560" y="8975880"/>
            <a:ext cx="30816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232416A9-BF43-4716-9E6D-B444A16F1A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9376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47880" y="4487760"/>
            <a:ext cx="5216400" cy="42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13"/>
          <p:cNvSpPr/>
          <p:nvPr/>
        </p:nvSpPr>
        <p:spPr>
          <a:xfrm>
            <a:off x="4030560" y="8975880"/>
            <a:ext cx="30816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A44A65C2-81BC-49D4-84B0-AFEE7F57FD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9376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47880" y="4487760"/>
            <a:ext cx="5216400" cy="42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9376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47880" y="4487760"/>
            <a:ext cx="5216400" cy="42530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ERAP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es the acronym stand fo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 some background history related to MITRE overview white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are we seeking to formalize?  (validation, versioning, extensibility, adop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4030560" y="8975880"/>
            <a:ext cx="30816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AEBE297B-BE1A-4E7A-93CB-C3030AE52C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9376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47880" y="4487760"/>
            <a:ext cx="5216400" cy="42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4030560" y="8975880"/>
            <a:ext cx="30816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643A020D-4C65-4C17-A931-7AC217954C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13"/>
          <p:cNvSpPr/>
          <p:nvPr/>
        </p:nvSpPr>
        <p:spPr>
          <a:xfrm>
            <a:off x="4030560" y="8975880"/>
            <a:ext cx="30816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41A8EAE4-0292-457D-94F8-AB5563D302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9376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47880" y="4487760"/>
            <a:ext cx="5216400" cy="42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13"/>
          <p:cNvSpPr/>
          <p:nvPr/>
        </p:nvSpPr>
        <p:spPr>
          <a:xfrm>
            <a:off x="4030560" y="8975880"/>
            <a:ext cx="30816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F5FB22E1-6662-48C2-B610-0B13B22470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9376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47880" y="4487760"/>
            <a:ext cx="5216400" cy="4253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 provides enough information to distinguish one remediation from another (i.e., yes, this is the remediation I am interested in..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I provides additional information – possible references, preconditions, known issues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9376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47880" y="4487760"/>
            <a:ext cx="5216400" cy="42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4030560" y="8975880"/>
            <a:ext cx="30816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485AC23F-C056-4FD0-8E49-99D0D4A283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9C6A-F446-47AD-9577-2707F4242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14680" y="586440"/>
            <a:ext cx="7818840" cy="7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76932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8080" y="4100760"/>
            <a:ext cx="76932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311C-B9F1-4581-AEEA-59C965025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14680" y="586440"/>
            <a:ext cx="7818840" cy="7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37540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80080" y="1752120"/>
            <a:ext cx="37540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8080" y="4100760"/>
            <a:ext cx="37540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80080" y="4100760"/>
            <a:ext cx="37540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571F-8BCD-46ED-A8D9-7B59C0DD3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14680" y="586440"/>
            <a:ext cx="7818840" cy="7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2476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39080" y="1752120"/>
            <a:ext cx="2476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0080" y="1752120"/>
            <a:ext cx="2476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8080" y="4100760"/>
            <a:ext cx="2476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39080" y="4100760"/>
            <a:ext cx="2476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0080" y="4100760"/>
            <a:ext cx="2476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E34A-068B-47FF-B8F1-E14D22C5B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442E2-8F86-4A1D-A3EA-22D49DD25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14680" y="586440"/>
            <a:ext cx="7818840" cy="7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38080" y="1752120"/>
            <a:ext cx="769320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30E29-488F-4DC9-8727-20702624B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14680" y="586440"/>
            <a:ext cx="7818840" cy="7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76932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DEF3D-C04A-4133-A5BB-BB9FF2760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14680" y="586440"/>
            <a:ext cx="7818840" cy="7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37540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80080" y="1752120"/>
            <a:ext cx="37540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22037-88A8-444D-BCC5-80C5C8F14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14680" y="586440"/>
            <a:ext cx="7818840" cy="7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E87B0-401C-49C0-9C52-E76C379B8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14680" y="586440"/>
            <a:ext cx="7818840" cy="33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BA535-907C-4A72-92B6-2CC36AC15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14680" y="586440"/>
            <a:ext cx="7818840" cy="7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37540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80080" y="1752120"/>
            <a:ext cx="37540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38080" y="4100760"/>
            <a:ext cx="37540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5DB2B-7653-4EB7-B57E-0F71C9A69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14680" y="586440"/>
            <a:ext cx="7818840" cy="7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8080" y="1752120"/>
            <a:ext cx="769320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507D-FE86-4653-B798-04A19F427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14680" y="586440"/>
            <a:ext cx="7818840" cy="7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37540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1752120"/>
            <a:ext cx="37540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80080" y="4100760"/>
            <a:ext cx="37540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0F916-40CD-4439-9AEC-375DD4BF3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14680" y="586440"/>
            <a:ext cx="7818840" cy="7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37540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80080" y="1752120"/>
            <a:ext cx="37540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100760"/>
            <a:ext cx="76932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4353F-A72D-40DC-924E-17CC395CA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14680" y="586440"/>
            <a:ext cx="7818840" cy="7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76932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38080" y="4100760"/>
            <a:ext cx="76932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76690-493A-46F3-A612-DCD1F7D94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14680" y="586440"/>
            <a:ext cx="7818840" cy="7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37540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80080" y="1752120"/>
            <a:ext cx="37540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38080" y="4100760"/>
            <a:ext cx="37540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80080" y="4100760"/>
            <a:ext cx="37540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BE111-60F6-4FA0-8265-5D25D687A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14680" y="586440"/>
            <a:ext cx="7818840" cy="7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2476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39080" y="1752120"/>
            <a:ext cx="2476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40080" y="1752120"/>
            <a:ext cx="2476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38080" y="4100760"/>
            <a:ext cx="2476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39080" y="4100760"/>
            <a:ext cx="2476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40080" y="4100760"/>
            <a:ext cx="2476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5A069-1F67-4295-89F9-809AE9394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14680" y="586440"/>
            <a:ext cx="7818840" cy="7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76932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10B6-C02F-44F0-A3D6-C999C5F3A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14680" y="586440"/>
            <a:ext cx="7818840" cy="7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37540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80080" y="1752120"/>
            <a:ext cx="37540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E2B5-B845-423F-A40E-FF843A2F0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14680" y="586440"/>
            <a:ext cx="7818840" cy="7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6E93-08DD-4657-A751-9A5F64B87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14680" y="586440"/>
            <a:ext cx="7818840" cy="33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6C89-F931-4D7D-A824-1BF3F5FBC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14680" y="586440"/>
            <a:ext cx="7818840" cy="7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37540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1752120"/>
            <a:ext cx="37540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8080" y="4100760"/>
            <a:ext cx="37540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6F2B-F349-4EFE-8FC3-954F88868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14680" y="586440"/>
            <a:ext cx="7818840" cy="7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37540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80080" y="1752120"/>
            <a:ext cx="37540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80080" y="4100760"/>
            <a:ext cx="37540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82E1-C22A-4259-9DBF-ED9580D1C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14680" y="586440"/>
            <a:ext cx="7818840" cy="7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37540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80080" y="1752120"/>
            <a:ext cx="37540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8080" y="4100760"/>
            <a:ext cx="76932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9828-2B61-4969-AFCA-D49B1670C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14680" y="586440"/>
            <a:ext cx="7818840" cy="7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752120"/>
            <a:ext cx="76932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b2b2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b2b2b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19051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14E1F-4370-4161-8417-A359E442B82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343040" y="6248520"/>
            <a:ext cx="43448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marL="2160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3193D-593E-4AB9-89C8-8D26AC028CD8}" type="slidenum">
              <a:rPr b="1" lang="en-US" sz="2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nistBlue"/>
          <p:cNvPicPr/>
          <p:nvPr/>
        </p:nvPicPr>
        <p:blipFill>
          <a:blip r:embed="rId2"/>
          <a:stretch/>
        </p:blipFill>
        <p:spPr>
          <a:xfrm>
            <a:off x="8001000" y="152280"/>
            <a:ext cx="990720" cy="354240"/>
          </a:xfrm>
          <a:prstGeom prst="rect">
            <a:avLst/>
          </a:prstGeom>
          <a:ln w="0">
            <a:noFill/>
          </a:ln>
        </p:spPr>
      </p:pic>
      <p:sp>
        <p:nvSpPr>
          <p:cNvPr id="6" name="Line 8"/>
          <p:cNvSpPr/>
          <p:nvPr/>
        </p:nvSpPr>
        <p:spPr>
          <a:xfrm>
            <a:off x="457200" y="1371600"/>
            <a:ext cx="8305920" cy="0"/>
          </a:xfrm>
          <a:prstGeom prst="line">
            <a:avLst/>
          </a:prstGeom>
          <a:ln w="3168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Line 7"/>
          <p:cNvSpPr/>
          <p:nvPr/>
        </p:nvSpPr>
        <p:spPr>
          <a:xfrm>
            <a:off x="1447920" y="5562720"/>
            <a:ext cx="6248160" cy="0"/>
          </a:xfrm>
          <a:prstGeom prst="line">
            <a:avLst/>
          </a:prstGeom>
          <a:ln w="3168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44" name="Picture 8" descr="nistBlue"/>
          <p:cNvPicPr/>
          <p:nvPr/>
        </p:nvPicPr>
        <p:blipFill>
          <a:blip r:embed="rId2"/>
          <a:stretch/>
        </p:blipFill>
        <p:spPr>
          <a:xfrm>
            <a:off x="3886200" y="5791320"/>
            <a:ext cx="1143000" cy="4078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14680" y="586440"/>
            <a:ext cx="7818840" cy="7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38080" y="1752120"/>
            <a:ext cx="76932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b2b2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b2b2b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19814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8B38F-3BCD-4F8A-8364-C53295214CD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4419360" y="6248520"/>
            <a:ext cx="42685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marL="2160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6954E-9302-4231-9E8F-EE85248EA707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mailto:david.waltermire@nist.gov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1640" y="3428640"/>
            <a:ext cx="434340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4d4d4d"/>
                </a:solidFill>
                <a:latin typeface="Arial"/>
              </a:rPr>
              <a:t>Security Automation Developer Days</a:t>
            </a:r>
            <a:endParaRPr b="0" lang="en-US" sz="17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4d4d4d"/>
                </a:solidFill>
                <a:latin typeface="Arial"/>
              </a:rPr>
              <a:t>June 14-16, 2010</a:t>
            </a:r>
            <a:endParaRPr b="0" lang="en-US" sz="17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Chris Johnson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Computer Security Division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Information Technology Laboratory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The National Institute of Standards and Technology (NIST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734040" y="1572480"/>
            <a:ext cx="7903800" cy="96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c1c1c"/>
                </a:solidFill>
                <a:latin typeface="Arial"/>
              </a:rPr>
              <a:t>Enterprise Remediation Automation Protocol (ERAP)</a:t>
            </a:r>
            <a:endParaRPr b="1" lang="en-US" sz="32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14680" y="586440"/>
            <a:ext cx="7818840" cy="73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c1c1c"/>
                </a:solidFill>
                <a:latin typeface="Arial"/>
              </a:rPr>
              <a:t>Other Activities</a:t>
            </a: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838080" y="1752120"/>
            <a:ext cx="76932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RAP validation strategy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RAP vendor outreach activities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visioning of identifiers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grating a trust mod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81280" y="652320"/>
            <a:ext cx="7228800" cy="599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c1c1c"/>
                </a:solidFill>
                <a:latin typeface="Arial"/>
              </a:rPr>
              <a:t>Contacts</a:t>
            </a: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228600" y="19047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1933"/>
                </a:solidFill>
                <a:latin typeface="Arial"/>
              </a:rPr>
              <a:t>Contact Info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33"/>
                </a:solidFill>
                <a:latin typeface="Arial"/>
              </a:rPr>
              <a:t>Christopher Johnson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933"/>
                </a:solidFill>
                <a:latin typeface="Arial"/>
              </a:rPr>
              <a:t>Computer Security Division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933"/>
                </a:solidFill>
                <a:latin typeface="Arial"/>
              </a:rPr>
              <a:t>Information Technology Laboratory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933"/>
                </a:solidFill>
                <a:latin typeface="Arial"/>
              </a:rPr>
              <a:t>National Institute of Standards and Technology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christopher.johnson@nist.gov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933"/>
                </a:solidFill>
                <a:latin typeface="Arial"/>
              </a:rPr>
              <a:t>(301) 975-5981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814680" y="586440"/>
            <a:ext cx="7818840" cy="73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c1c1c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725400" y="1752120"/>
            <a:ext cx="76932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ERAP?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the ERAP components?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AP Use Cases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AP Capabilities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AP Publication Suite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AP Component Specifications Roadmap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AP Publications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Activities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2262240" y="510120"/>
            <a:ext cx="4694760" cy="73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c1c1c"/>
                </a:solidFill>
                <a:latin typeface="Arial"/>
              </a:rPr>
              <a:t>What is ERAP?</a:t>
            </a: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terpris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ediatio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omatio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toco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llection of individually maintained, community developed, open specifications to provide a standardized approach to maintaining the security of enterprise systems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se specifications establish conventions for identifying, describing and orchestrating remediation actions for the enterprise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RAP defines how these specification are used in concert to deliver capabilities to the security automation community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cludes standardized reference data -- ERAP Content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b2b2b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ounded Rectangle 10"/>
          <p:cNvSpPr/>
          <p:nvPr/>
        </p:nvSpPr>
        <p:spPr>
          <a:xfrm>
            <a:off x="304920" y="685800"/>
            <a:ext cx="8610480" cy="556272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Rounded Rectangle 9"/>
          <p:cNvSpPr/>
          <p:nvPr/>
        </p:nvSpPr>
        <p:spPr>
          <a:xfrm>
            <a:off x="4572000" y="1295280"/>
            <a:ext cx="2819520" cy="4800600"/>
          </a:xfrm>
          <a:custGeom>
            <a:avLst/>
            <a:gdLst>
              <a:gd name="textAreaLeft" fmla="*/ 137520 w 2819520"/>
              <a:gd name="textAreaRight" fmla="*/ 2682000 w 2819520"/>
              <a:gd name="textAreaTop" fmla="*/ 137520 h 4800600"/>
              <a:gd name="textAreaBottom" fmla="*/ 4663080 h 4800600"/>
            </a:gdLst>
            <a:ahLst/>
            <a:rect l="textAreaLeft" t="textAreaTop" r="textAreaRight" b="textAreaBottom"/>
            <a:pathLst>
              <a:path w="21600" h="36775">
                <a:moveTo>
                  <a:pt x="3600" y="0"/>
                </a:moveTo>
                <a:arcTo wR="3600" hR="3600" stAng="16200000" swAng="-5400000"/>
                <a:lnTo>
                  <a:pt x="0" y="33175"/>
                </a:lnTo>
                <a:arcTo wR="3600" hR="3600" stAng="10800000" swAng="-5400000"/>
                <a:lnTo>
                  <a:pt x="18000" y="367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75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" name="Rounded Rectangle 8"/>
          <p:cNvSpPr/>
          <p:nvPr/>
        </p:nvSpPr>
        <p:spPr>
          <a:xfrm>
            <a:off x="1600200" y="1295280"/>
            <a:ext cx="2971800" cy="4800600"/>
          </a:xfrm>
          <a:custGeom>
            <a:avLst/>
            <a:gdLst>
              <a:gd name="textAreaLeft" fmla="*/ 145080 w 2971800"/>
              <a:gd name="textAreaRight" fmla="*/ 2826720 w 2971800"/>
              <a:gd name="textAreaTop" fmla="*/ 145080 h 4800600"/>
              <a:gd name="textAreaBottom" fmla="*/ 4655520 h 4800600"/>
            </a:gdLst>
            <a:ahLst/>
            <a:rect l="textAreaLeft" t="textAreaTop" r="textAreaRight" b="textAreaBottom"/>
            <a:pathLst>
              <a:path w="21600" h="34891">
                <a:moveTo>
                  <a:pt x="3600" y="0"/>
                </a:moveTo>
                <a:arcTo wR="3600" hR="3600" stAng="16200000" swAng="-5400000"/>
                <a:lnTo>
                  <a:pt x="0" y="31291"/>
                </a:lnTo>
                <a:arcTo wR="3600" hR="3600" stAng="10800000" swAng="-5400000"/>
                <a:lnTo>
                  <a:pt x="18000" y="348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49393"/>
          </a:solidFill>
          <a:ln w="9360">
            <a:solidFill>
              <a:srgbClr val="2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3960" y="38160"/>
            <a:ext cx="8381160" cy="5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c1c1c"/>
                </a:solidFill>
                <a:latin typeface="Arial"/>
              </a:rPr>
              <a:t>ERAP Components</a:t>
            </a:r>
            <a:endParaRPr b="1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828800" y="3200400"/>
            <a:ext cx="27432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achine readable XML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282600" indent="-2826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port results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282600" indent="-2826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rchestrate remediation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282600" indent="-2826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nfigure machine state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282600" indent="-2826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xpress Policy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266720" y="3276360"/>
            <a:ext cx="312444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ffffff"/>
              </a:buClr>
              <a:buSzPct val="15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crete remediation actions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ffffff"/>
              </a:buClr>
              <a:buSzPct val="15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upplemental remediation data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ffffff"/>
              </a:buClr>
              <a:buSzPct val="15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ata exchange formats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905120" y="1523880"/>
            <a:ext cx="2514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96720" indent="-3967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Language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96720" indent="-3967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eans of expressing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96720" indent="-3967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nstructions/Results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96720" indent="-396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4572000" y="1523880"/>
            <a:ext cx="281952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6720" indent="-3967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Enumeration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96720" indent="-3967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onventions for identifying and describing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Rounded Rectangle 6"/>
          <p:cNvSpPr/>
          <p:nvPr/>
        </p:nvSpPr>
        <p:spPr>
          <a:xfrm>
            <a:off x="533520" y="1600200"/>
            <a:ext cx="3733560" cy="4952880"/>
          </a:xfrm>
          <a:custGeom>
            <a:avLst/>
            <a:gdLst>
              <a:gd name="textAreaLeft" fmla="*/ 182160 w 3733560"/>
              <a:gd name="textAreaRight" fmla="*/ 3551400 w 3733560"/>
              <a:gd name="textAreaTop" fmla="*/ 182160 h 4952880"/>
              <a:gd name="textAreaBottom" fmla="*/ 4770720 h 4952880"/>
            </a:gdLst>
            <a:ahLst/>
            <a:rect l="textAreaLeft" t="textAreaTop" r="textAreaRight" b="textAreaBottom"/>
            <a:pathLst>
              <a:path w="21600" h="28654">
                <a:moveTo>
                  <a:pt x="3600" y="0"/>
                </a:moveTo>
                <a:arcTo wR="3600" hR="3600" stAng="16200000" swAng="-5400000"/>
                <a:lnTo>
                  <a:pt x="0" y="25054"/>
                </a:lnTo>
                <a:arcTo wR="3600" hR="3600" stAng="10800000" swAng="-5400000"/>
                <a:lnTo>
                  <a:pt x="18000" y="2865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457200" y="685800"/>
            <a:ext cx="8458200" cy="60948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Set of community developed specification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14680" y="586440"/>
            <a:ext cx="7818840" cy="73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c1c1c"/>
                </a:solidFill>
                <a:latin typeface="Arial"/>
              </a:rPr>
              <a:t>ERAP Use Cases</a:t>
            </a: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609480" y="1752480"/>
            <a:ext cx="8077320" cy="25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RAP Use Cases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 Narrow"/>
              </a:rPr>
              <a:t>Comprehensive Remediation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– remediate one or more computing assets for all vulnerabilities and mis-configurations discovered during a prior assessment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 Narrow"/>
              </a:rPr>
              <a:t>Selective Remediation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– remediate one or more computing assets for a subset of vulnerabilities and mis-configurations discovered during a prior assessment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 Narrow"/>
              </a:rPr>
              <a:t>Independent Remediation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– apply one or more remediations to one or more computing assets regardless of their current state.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"/>
          <p:cNvGraphicFramePr/>
          <p:nvPr/>
        </p:nvGraphicFramePr>
        <p:xfrm>
          <a:off x="1905120" y="1828800"/>
          <a:ext cx="5243400" cy="3817800"/>
        </p:xfrm>
        <a:graphic>
          <a:graphicData uri="http://schemas.openxmlformats.org/drawingml/2006/table">
            <a:tbl>
              <a:tblPr/>
              <a:tblGrid>
                <a:gridCol w="1168200"/>
                <a:gridCol w="1484280"/>
                <a:gridCol w="2590920"/>
              </a:tblGrid>
              <a:tr h="682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C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Common Remediation Enumer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Establishes a common name and basic information about the remedi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ER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Extended Remediation Inform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Contains supplemental information about a remedi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Remediation Control Langua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Convention for asserting which remediations are to be applied to specific asse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Remediation Policy Language Specific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Ability to constrain remediation by asset typ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69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Remediation Resul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Common format for reporting the results of an attempted remedi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OVR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Open Vulnerability Remediation Langua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Language for expressing the low level remediation ac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2" name="Oval 16"/>
          <p:cNvSpPr/>
          <p:nvPr/>
        </p:nvSpPr>
        <p:spPr>
          <a:xfrm>
            <a:off x="609480" y="1828800"/>
            <a:ext cx="2210040" cy="1295280"/>
          </a:xfrm>
          <a:prstGeom prst="ellipse">
            <a:avLst/>
          </a:prstGeom>
          <a:solidFill>
            <a:srgbClr val="77777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 Narrow"/>
              </a:rPr>
              <a:t>Naming &amp; Describing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" name="Oval 20"/>
          <p:cNvSpPr/>
          <p:nvPr/>
        </p:nvSpPr>
        <p:spPr>
          <a:xfrm>
            <a:off x="609480" y="4952880"/>
            <a:ext cx="2210040" cy="685800"/>
          </a:xfrm>
          <a:prstGeom prst="ellipse">
            <a:avLst/>
          </a:prstGeom>
          <a:solidFill>
            <a:srgbClr val="77777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 Narrow"/>
              </a:rPr>
              <a:t>_x0012_</a:t>
            </a:r>
            <a:r>
              <a:rPr b="1" i="1" lang="en-US" sz="2000" spc="-1" strike="noStrike">
                <a:solidFill>
                  <a:srgbClr val="ffffff"/>
                </a:solidFill>
                <a:latin typeface="Arial Narrow"/>
              </a:rPr>
              <a:t>Remediating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Oval 21"/>
          <p:cNvSpPr/>
          <p:nvPr/>
        </p:nvSpPr>
        <p:spPr>
          <a:xfrm>
            <a:off x="609480" y="4343400"/>
            <a:ext cx="2210040" cy="631800"/>
          </a:xfrm>
          <a:prstGeom prst="ellipse">
            <a:avLst/>
          </a:prstGeom>
          <a:solidFill>
            <a:srgbClr val="77777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 Narrow"/>
              </a:rPr>
              <a:t>Reporting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2491200" y="204840"/>
            <a:ext cx="4466160" cy="73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c1c1c"/>
                </a:solidFill>
                <a:latin typeface="Arial"/>
              </a:rPr>
              <a:t>ERAP Capabilities</a:t>
            </a: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6" name="Oval 7"/>
          <p:cNvSpPr/>
          <p:nvPr/>
        </p:nvSpPr>
        <p:spPr>
          <a:xfrm>
            <a:off x="609480" y="3124080"/>
            <a:ext cx="2210040" cy="1219320"/>
          </a:xfrm>
          <a:prstGeom prst="ellipse">
            <a:avLst/>
          </a:prstGeom>
          <a:solidFill>
            <a:srgbClr val="77777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 Narrow"/>
              </a:rPr>
              <a:t>Orchestration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14680" y="586440"/>
            <a:ext cx="7818840" cy="73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c1c1c"/>
                </a:solidFill>
                <a:latin typeface="Arial"/>
              </a:rPr>
              <a:t>ERAP Publication Suite</a:t>
            </a: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8080" y="1752120"/>
            <a:ext cx="76932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IST will work with the community to develop a set of publications describing these enterprise remediation capabilities.  These publications will be hosted on the NIST Computer Security Resource Center (CSRC) website: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AP Vision Document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uide to Adopting and Using ERAP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AP Technical Specification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AP Component Specification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AP Data Exchange Format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14680" y="586440"/>
            <a:ext cx="7818840" cy="73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c1c1c"/>
                </a:solidFill>
                <a:latin typeface="Arial"/>
              </a:rPr>
              <a:t>ERAP Component Specifications Roadmap</a:t>
            </a: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838080" y="1752120"/>
            <a:ext cx="76932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RAP Component Specification Roadmap (DRAFT)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Y2010: CRE, ERI, Policy Language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Y2011: Control Language, Results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Y2012: Remediation Language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14680" y="586440"/>
            <a:ext cx="7818840" cy="73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c1c1c"/>
                </a:solidFill>
                <a:latin typeface="Arial"/>
              </a:rPr>
              <a:t>ERAP Publications</a:t>
            </a: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838080" y="1752120"/>
            <a:ext cx="76932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RAP Publications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AP Vision Documen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ide to Adopting and Using ERAP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AP Technical Specification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8T15:24:41Z</dcterms:created>
  <dc:creator/>
  <dc:description/>
  <cp:keywords/>
  <dc:language>en-US</dc:language>
  <cp:lastModifiedBy>sboczeno</cp:lastModifiedBy>
  <cp:lastPrinted>2009-04-22T19:24:48Z</cp:lastPrinted>
  <dcterms:modified xsi:type="dcterms:W3CDTF">2010-06-08T17:15:32Z</dcterms:modified>
  <cp:revision>1052</cp:revision>
  <dc:subject/>
  <dc:title>Security Content Automation Protocol and What It Means to Information Assuran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84381033</vt:lpwstr>
  </property>
</Properties>
</file>